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640-3F03-41E0-A16D-B3603344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224-C1A5-4BB2-A8FD-266A7377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124-645D-4E2C-BC0A-B478EC75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3CD-7D6E-419B-846E-50974EAE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AFFA-B868-405F-8458-CD9353B0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71F2-D5A8-4744-9226-44ADA0F7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122E-73DB-4CB2-9477-A7EF2652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CD95-B07B-454E-ABE8-0EBDAD0C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AF31-2A3F-4452-BF02-BA7D1472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F99C-5B97-4203-A371-AA40FD8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1C33-0E85-48F9-AFCF-4C351E29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0C7-6E35-46A6-991A-7BE17521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1358-CA7F-4BD9-A372-5F6428D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026A-5088-4414-BF81-E77D6C8E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BF72-A556-44B4-AC2D-A61B9976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B8C-4A9E-4805-A44C-6C150477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4467-07AF-453F-81B7-1389B99B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601-CA73-41B5-A651-255B4AE4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018-C8B6-4AB4-A6E4-DA6F4F7B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0FE-CD3E-433C-B413-28A7F679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51F-A6A6-4EDB-964A-FBE180F6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754-E8F5-46EE-92C8-79DE571B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DD8-6EC9-4C6C-8B97-B5A48BE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6F1-ED57-4011-AA59-5C2B092A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78E0-2C15-41E2-AC7D-B21121179E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35B2-1AEF-48CD-B8B9-0842E0EA22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и система обозна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Сед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 X для приборов с обратной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ярностью (основание корпуса - катод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ос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о, обозначающее класс по по­вторяющемуся импульсному напряжению в закры­том состоянии (сотни вольт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Дев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а цифр, обозначающая соче­тание классификационных параметров: для низкочастотных приборов (аббревиатура «зс» означает запертое состояние, а аббревиатура «кр» критическое значение);  и  для высо­кочастотных прибор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 для быстродействующих приборов; для симметричных ти­ристоров (симисторов) и тиристоров-диодов вместо (du3C/dt)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 классификационным параметром являет­ся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ОПТОЭЛЕКТРОННЫЕ ПРИБОР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оэлектронных при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тоэлектронными называют приборы, которые чувствительны к электромагнитному излучению в видимой, инфракрасной и ультрафиолетовой областях, а также при­боры, производящие или использующие такое 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Излучающий диод (светодиод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щий диод, работающий в видимом диапазоне волн, часто называют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излучающим, или светоди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устройство, характеристики, параметры и систему обозначений излучающих ди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ройст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хематическое изображение структур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щего диода представлено на рис. 1.120, а; его условное графическое обозначение - на рис. 1.120, 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ение возникает при протекании прямого тока диода в результате рекомбинации электронов и дырок в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и 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ерехода и в областях, примыкающих к указанной области. При рекомбинации излучаются фот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и и параметры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излучающих диодов, работающих в видимом диапазоне (длина волны от 0,38 до 0,78 мкм, частота около, но меньше 1015 Гц), ши­роко используются следующи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403280" y="1700280"/>
          <a:ext cx="629604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2960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635280" y="537372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злучающих диодов, работающих не в видимом диапазоне, используют характеристики, отражающие за­висимость мощности излуч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 тока дио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зим яркостную характеристику для светоизлучающего диода тип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2А (рис. 1.121). Цвет свечения это­го диода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– красны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63640" y="1628640"/>
          <a:ext cx="537840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3784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419640" y="5445000"/>
            <a:ext cx="172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м график зависимости силы света от тока для светоизлучающего диода типа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6A (рис. 1.122) (цвет свечения - крас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м зону возможных положений (рис. 1.123) графика зависимости мощности излучения от тока для излучающего диода типа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19A, работающего в инфра­красном диапазоне (длина волны 0,93...0,96 мк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15640" y="2133360"/>
            <a:ext cx="69850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пускаемые с 1980 г. тиристоры имеют классифика­цию и систему обозначений, установленные ГОСТ 20859.1-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92360" y="1716120"/>
          <a:ext cx="48308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16120"/>
                    <a:ext cx="48308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203640" y="5229360"/>
            <a:ext cx="1727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38640" cy="2852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508464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ведем для диода типа AJ119А его некоторые пара­мет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нарастания импульса излучения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более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н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спада импульса излучения - не более 1500 нс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прямое напряжение при i более 3 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ый максимально допустимый прямой ток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t &lt; +85°С - 200 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а окружающей среды -60...+85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Система обозначени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вно существующая система обозначений предполагает использование двух или трех букв и трех цифр, например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6 или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331 и приве­дена в [3]. Первая буква указывает на материал, вторая (или вторая и третья) - на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руктивное исполнение: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единичный светодиод, ЛС - ряд или матрица светодиодов. Последующие цифры (а иногда буквы) обознача­ют номер разработки. Нельзя не признать такую систему несоверш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В настоящее время источники излучения обозначают­ся как частный случай индикаторов. Современные обозна­чения индикаторов содержат семь элементов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в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буква И, обозначающая принадлеж­ность прибора к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синтезирующим индикаторам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ЗС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тор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, обозначающая вид индикато­ра: Н - вакуумные накаливаемые;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акуумные элект­ролюминесцентные; Ж - жидкокристаллические; П - полупроводниковые; Э - электролюминесце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Трети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ющая отобража­емую информацию: Д - единичная; Ц - цифровая; В - буквенно-цифровая; Т - шкальная; М - мнемоническая; Г - граф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Четвер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о, указывающее на поряд­ковый номер разработки: номер с 1-го по 69-й - индика­торы без встроенного управления; с 70-го по 99-й - со встроенным управ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ква, обозначающая принадлеж­ность индикатора к одной из классификационных групп приборов, изготовленных по общему технологическому процессу. Используются буквы русского алфавита от А до Я (не употребляются 3, О, Ы, Ь, Ъ, Ш, 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Шест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обь или произведение, характери­зующее информационное поле индикатора (кроме единич­ных индикаторов). Для одноразрядных и многоразрядных сегментных индикаторов - дробь, числитель которой число сегментов, знаменатель - число разрядов. Для од­норазрядных и многоразрядных матричных индикато­ров - дробь, числитель которой - число разрядов, зна­менатель - произведение числа элементов в строке на число элементов в столбце. Для матричных индикаторов без фиксированных знакомест - произведение числа элементов в строке на число элементов в столбце.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монических и шкальных индикаторов шестой элемент указывает число элементов индик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ксплуатации находятся тиристоры, система обозначений кото­рых регламентировалась стандартами (ГОСТ 10862-72, ГОСТ 14069-72 и др.), в настоящее время отмененными. В основу обозначений тиристоров положен буквенно-цифровой код, состоящий из четырех элементов (ГОСТ 10862-7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Сед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, обозначающая цвет свечения. Для одноцветных индикаторов: К - красный,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еле­ный, С - синий, Ж - желтый, Р - оранжевый, Г - го­лубой (для одиночных и полупроводниковых индикаторов всех видов). Для многоцветных индикаторов всех видов буква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Фоторезистор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торезистором называют полупроводниковый рези­стор, сопротивление которого чувствительно к электро­магнитному излучению в оптическом диапазоне спектра. Дадим схематическое изображение структуры фоторези­стора (рис. 1.124, а) и его условное графическое обозна­чение (рис. 1.124, 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771640" y="765000"/>
          <a:ext cx="3591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765000"/>
                    <a:ext cx="3591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635280" y="537372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торезисторы часто характеризуются зависимостью то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освещенности Е при заданном напряжении на резисторе. Это так называемая люкс-амперная характери­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м такую характеристику для фоторезистора типа ФСК-Г7, который работает в видимой части спект­ра (рис. 1.12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340000" y="1341360"/>
          <a:ext cx="442908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4290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780000" y="5516640"/>
            <a:ext cx="1726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Часто используют следующие параметры фоторезисторов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2480" y="1412640"/>
            <a:ext cx="829152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инальное темновое (при отсутствии светового потока) сопротивление (для ФСК-Г7 это сопротив­ление равно 5 М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гральную чувствительность (чувствительность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интегральной, так как ее определяют при освещении фоторезистора светом сложного спект­рального состава). Интегральная чувствительность (токовая чувствитель­ность к световому потоку) S определяется выражением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называемый фототок (это разность между то­ком при освещении и током при отсутствии освещен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фоторезистора ФСК-Г7 S- 0,7 А/лм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932360" y="4221000"/>
                <a:ext cx="5032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r>
                          <m:t xml:space="preserve">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03280" y="465300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58920" y="5300640"/>
                <a:ext cx="16200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Фотодио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смотрим устройства, основные физические процессы, характеристики и параметры фотоди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тройство и основные физические процессы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образим упрощенную структуру фотодиода (рис. 1.126, а) и его ус­ловное графическое обозначение (рис. 1.126, 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1280" y="508464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с. 1.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425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ческие процессы, протекающие в фотодиодах, носят обратный характер по отношению к процессам, протекающим в светодиодах. Основным физическим яв­лением в фотодиоде является генерация пар электрон- дырка в области перехода и в прилегающих к нему областях под действием изл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ерация пар электрон-дырка приводит к увеличению обратного тока диода при наличии обратного напряжения и к появлению напряж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 между анодом и катодом при разомкнутой цепи. Причем в соответствии со сделан­ным замечанием о разделении электронов и дырок (дырки переходят к аноду, а электроны - к катод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ервый элемент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буква или цифра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ает исходный материал: Г, или 1, - германий; К, или 2, - кремний; А, или 3, - арсенид гал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торой элемент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буква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416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прибора: Н - диодный тиристор (динистор); У - триодный тирис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3800" spc="-1" strike="noStrike">
                <a:solidFill>
                  <a:srgbClr val="000000"/>
                </a:solidFill>
                <a:latin typeface="Times New Roman"/>
              </a:rPr>
              <a:t>рети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1 до 9), обозначающая порядковый номер модификации (разработки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Четвер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1 до 9), обозначающая классификационный размер корпуса прибор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0 до 5), обозначающая кон­структивное исполне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Шест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, равное значению максималь­но допустимого среднего тока в открытом состоянии для тиристоров, лавинных тиристоров, оптотиристоров, комбинированно выключаемых тиристоров, максимально допустимого импульсного тока для импульсных тиристоров, максимально допустимого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его тока для симисторов и импульсного запираемого тока для запираемых тиристоров. Для тиристоров-диодов шестой элемент состоит из дроби, в числителе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й - значение максимально допустимого среднего тока в открытом состоянии, а в знаменателе - значение максимально допустимого среднего тока в обратном проводящем состоя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9:25:23Z</dcterms:created>
  <dc:creator>student</dc:creator>
  <dc:description/>
  <dc:language>en-US</dc:language>
  <cp:lastModifiedBy>student</cp:lastModifiedBy>
  <dcterms:modified xsi:type="dcterms:W3CDTF">2012-04-20T05:52:12Z</dcterms:modified>
  <cp:revision>5</cp:revision>
  <dc:subject/>
  <dc:title>Классификация и система обозначений</dc:title>
</cp:coreProperties>
</file>